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371-BB7A-40B6-968C-E43D329E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A86-4AF8-4509-BBBA-35D10F52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B50-A343-4BF3-BF0F-EF1F4072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4F8-BE59-4554-BC1E-E4932973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9DB0-E764-487F-A5C4-CB9C9985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6CF4-C893-42F6-9CD2-6A8B5216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5437-FA6C-4372-95F8-B1E21FD6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DC9E-7FE2-4A13-B2C3-91D7AD83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ADCA-7CB2-44F1-B811-17FC516E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D925-0BCC-4E09-984C-403D3F60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E9C8-A4BA-4AA2-90B4-F874A57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A15-89B4-42B6-A051-EAF53E1C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7F47-878D-4B62-BF74-FEC6372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1739-284B-47DF-B811-11189EBA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728C-C57D-4F8E-9307-2F1E8F0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C6BC-2D06-4834-8472-39A26F35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FBF6-F09F-4361-8D92-8E73372D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452-14A0-483E-AC6B-37C13BE2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2C9-2774-430A-A59C-D057346F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374-C340-43A9-ACD0-8D697770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965-EDB9-4C0E-937E-98787CB9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343-D79E-4C41-A7F3-3050DF4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B63-B0D6-4D95-B7D1-63EF313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4E5-D71B-499F-84A9-82380C01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42C9-011F-4C50-BBB4-7FEBC30CD64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3BCB-3DBD-4FDD-BAB6-74B3B43A42F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lcome to our PB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843280" y="2057040"/>
            <a:ext cx="6300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2f1311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Bradley Hand ITC"/>
              </a:rPr>
              <a:t>Mrs. Wingerath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f1311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Bradley Hand ITC"/>
              </a:rPr>
              <a:t>Mrs. Reidy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f1311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Bradley Hand ITC"/>
              </a:rPr>
              <a:t>Mrs. Gordon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2370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Patien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f1311"/>
                </a:solidFill>
                <a:uFillTx/>
                <a:latin typeface="Arial"/>
              </a:rPr>
              <a:t>Patience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apable of calmly awaiting an outcom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il_fi" descr=""/>
          <p:cNvPicPr/>
          <p:nvPr/>
        </p:nvPicPr>
        <p:blipFill>
          <a:blip r:embed="rId2"/>
          <a:stretch/>
        </p:blipFill>
        <p:spPr>
          <a:xfrm>
            <a:off x="3521160" y="1143000"/>
            <a:ext cx="41288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Preci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f1311"/>
                </a:solidFill>
                <a:uFillTx/>
                <a:latin typeface="Arial"/>
              </a:rPr>
              <a:t>Precision: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he state or quality of being consistent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il_fi" descr=""/>
          <p:cNvPicPr/>
          <p:nvPr/>
        </p:nvPicPr>
        <p:blipFill>
          <a:blip r:embed="rId2"/>
          <a:stretch/>
        </p:blipFill>
        <p:spPr>
          <a:xfrm>
            <a:off x="3581280" y="1587600"/>
            <a:ext cx="384660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086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f1311"/>
                </a:solidFill>
                <a:uFillTx/>
                <a:latin typeface="Arial"/>
              </a:rPr>
              <a:t>Practice: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o do or perform over and over so to polish a skill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45738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5:52:11Z</dcterms:created>
  <dc:creator>netadmin8</dc:creator>
  <dc:description/>
  <dc:language>en-US</dc:language>
  <cp:lastModifiedBy>netadmin8</cp:lastModifiedBy>
  <dcterms:modified xsi:type="dcterms:W3CDTF">2013-10-10T16:02:32Z</dcterms:modified>
  <cp:revision>2</cp:revision>
  <dc:subject/>
  <dc:title>Welcome to our PBL</dc:title>
</cp:coreProperties>
</file>